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9A7-C462-4325-B6FE-04FD9C86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D28-BACA-40D3-88C0-51DB74FA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630-CB64-4685-83ED-BF5FF0F5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90C-77BA-4818-8B61-4A8A6A57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CAA-3EED-402A-B1CC-7A4648A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352-88DC-421E-95E2-14D12937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AEF-3395-4ED4-B17B-8D25EE7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3D0-0C2A-4BC3-92AE-674C925A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7DD-42EE-4B3E-8375-0038A62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6C-C26E-45EA-8ACA-2D37901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A83-899A-4FC2-A45D-1ECCEB9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60D-9F52-41C4-8DC3-89564ED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B35-795F-482B-9C99-C29659FF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988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Virginia Tomatoes on Blue Silk Scar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Wright-Frierson, Virginia, American, born 19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ter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7.5” x 10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733920"/>
            <a:ext cx="2209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Abst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Frank London. American, 1876-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7” x 2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57600" cy="148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20052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920" y="1082520"/>
            <a:ext cx="2361960" cy="164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56360" y="33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7339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Peeled Orange and P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Hobson Pittman, American, 1900-1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pas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8.75” x 22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c.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6360" y="57150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ou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 three dimension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shape/form, simplification/abstraction, light and shadow,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052640"/>
            <a:ext cx="3429000" cy="23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35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90960" cy="403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600" y="4572000"/>
            <a:ext cx="89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widely popular forms of ar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-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ll-life painting, the artist arranges objects such as fru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bles, containers, cloths in an interes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a painting of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181480" cy="36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5400" y="4307040"/>
            <a:ext cx="790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still-life paintings, the artist chooses to mak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appear v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do you recognize in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77208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89280" y="476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560" y="525780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paintings, the artist may choose to paint th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ill-life in ways that make it difficult for the view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5240" y="304920"/>
            <a:ext cx="365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th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ing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 to be bro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be sure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are located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6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200" y="3773520"/>
            <a:ext cx="839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inting is a good example of how artists use shap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e know that plates are usually rou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plates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ainted as oval sha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ook that way because the artist is showing us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he is not looking straight down a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294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840" y="3809880"/>
            <a:ext cx="80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st is showing the viewer that the fru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he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fl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ainting a shadow on the right 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ome fruit and by painting a shadow undernea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f s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8322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4160" y="304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560" y="510552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look carefully at the goblet in the center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 you will see the artist has used light and 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 to look like shadow here to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3:19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